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C34-BE55-431F-9344-1E343E466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104B-C8AD-4886-A8C8-C27F28248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9EC-11B4-4CE6-B7F9-7F4CA9E7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860-3700-40AB-A784-D2AEC13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315-3F09-46E4-A090-A466B5DD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20E-17A4-4362-9CBB-56B10D4C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6A1C-02C7-4BD4-904F-EA1C5619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41E-9B6E-4D05-B86C-4262B61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433F-5EE4-4BF0-976C-D18BCA09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FB7A-9435-426C-AE83-EBF5056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933F-D974-4E34-8A02-77582F0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1A2A-8D01-47FA-A4DC-DCD1CF8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12BA-6E44-4458-894B-2A275FC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BE5-7432-42B2-9AC9-0BED278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FC0-127A-4D57-93A3-F217632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59E5-0376-45A6-BBDA-00DC895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D24D-BDDD-4208-988A-67563C5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32FC-AEA0-4710-9D45-8F899429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CF30-17BB-4954-B6AC-97A05C1B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69D-0E58-4936-BD4E-A5825ED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00D-CAE5-40E3-8B20-07CD4B5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09C-710E-4928-9D22-3C434133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7F8-5CBE-463F-90C3-2E549AD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269-5791-4951-9152-CC31960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E61-01B0-4A80-B579-0B36D0D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83B-66C9-40FC-97F6-511B771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1BE-FFE2-4DF0-8C45-C77A2C23E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21A-54D2-4A61-B620-BB9C5301D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582560"/>
          <a:ext cx="7775280" cy="45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82560"/>
                    <a:ext cx="777528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914400" y="1752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38280" y="1523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, Energy, and Simple Machi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34120" y="16002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nses and Mirro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95800" y="175248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858000" y="1600200"/>
            <a:ext cx="12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icity and Circui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246120" y="2666880"/>
            <a:ext cx="26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∆t=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₂-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2057400" y="205740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Impulse- Momentum Theore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2057400" y="2057400"/>
            <a:ext cx="533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perty to produce within the environm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753280" y="1981080"/>
            <a:ext cx="381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838080" y="19810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ergy of an object resulting from motion-K= 1/2mv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999440" y="2133720"/>
            <a:ext cx="56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Kinetic Energ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16765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io of resistance force to effort for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155960" y="2133720"/>
            <a:ext cx="74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chanical Advantag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2362320" y="198108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io of output work to input wor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ork, Energy, and Simple Machin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2133720" y="206676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fficienc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09680" y="21337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inertia in mo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889280" y="2057400"/>
            <a:ext cx="565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ked so that the resistance force of one machine becomes the effort force of the secon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ork, Energy, and Simple Machi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171080" y="2057400"/>
            <a:ext cx="708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compound mach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676520" y="1905120"/>
            <a:ext cx="580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nge of frequencies that stimulate the retina of the ey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757960" y="2057400"/>
            <a:ext cx="33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gh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889280" y="1905120"/>
            <a:ext cx="557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visible light is emitted from a sour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851480" y="2286000"/>
            <a:ext cx="54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uminous flux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889280" y="1905120"/>
            <a:ext cx="573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ate at which light falls on a surface; measured in lux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078640" y="1981080"/>
            <a:ext cx="49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llumina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600200" y="2057400"/>
            <a:ext cx="641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used a prism to conclude the arrangement of colors from red to violet to be a spectr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2153880" y="1905120"/>
            <a:ext cx="52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Isaac Newt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omentu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057400" y="22096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omentu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600200" y="2133720"/>
            <a:ext cx="6721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the first to determine that light does travel with measurable spe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2230200" y="1905120"/>
            <a:ext cx="488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Ole Roem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905120" y="198108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which light is reflect ted back to the observer i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allel beam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615320" y="2057400"/>
            <a:ext cx="63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r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lec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057400" y="19051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lects light from its inner surfa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1853640" y="2057400"/>
            <a:ext cx="60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concave mirr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1889280" y="1905120"/>
            <a:ext cx="5654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es that the ratio of the sine of the angle of incidence to the sine of the angle of refraction is a constan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063160" y="2286000"/>
            <a:ext cx="498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nell’s La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371600" y="1981080"/>
            <a:ext cx="67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ccurs when the angle of refraction is larger than the angle of 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096920" y="2133720"/>
            <a:ext cx="74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otal internal reflec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 flipV="1" rot="10800000">
            <a:off x="1447920" y="213336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duct of the average force and the time in which it a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914400" y="190512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mage formed by parallel rays in a large, spherical mirror is a disk not a poi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Lenses and Mi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369080" y="2209680"/>
            <a:ext cx="67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pherical aberr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398600" y="2057400"/>
            <a:ext cx="68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icity caused by fric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29240" y="1905120"/>
            <a:ext cx="56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atic electric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828800" y="1905120"/>
            <a:ext cx="542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lass, dry wood, most plastics, cloth, and dry air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2229480" y="198108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insulator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600200" y="1600200"/>
            <a:ext cx="6781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gnitude of the force between charge qa and charge qb separated a distance d, is proportional to the magnitude of the charges and inversely proportional to the square of the dist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609560" y="2133720"/>
            <a:ext cx="591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ulomb’s La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828800" y="19051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d to measure the current in any branch or part of a circu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2057400" y="20574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ammet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455920" y="228600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mpul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1676520" y="17524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so known as the solar cell, changes light energy to electricity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Electricity and Circui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1702080" y="205740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photovoltaic c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5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838080" y="19810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person created the no batteries flashl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791280" y="2209680"/>
            <a:ext cx="745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Michael David Farada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2209680" y="1828800"/>
            <a:ext cx="510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s stick together either prior to separating or after colli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omentu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399680" y="2133720"/>
            <a:ext cx="689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nelastic collis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828800" y="1981080"/>
            <a:ext cx="6035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es that the momentum of a system cannot be changed unless an outside force acts on i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oment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438280" y="182880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law of Conservation of Momentu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LENOVO USER</cp:lastModifiedBy>
  <dcterms:modified xsi:type="dcterms:W3CDTF">2009-12-13T20:14:03Z</dcterms:modified>
  <cp:revision>22</cp:revision>
  <dc:subject/>
  <dc:title>Jeopardy</dc:title>
</cp:coreProperties>
</file>